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A13-B0CE-4111-82EE-AD06E3DA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498-4F29-4B3D-A004-FBA70522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CFDA-328D-4DBD-9036-35C5A599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463-13B5-4981-81F2-FE4CBD9D7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99B-4F6E-42D9-8293-4B0E66F5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67F-7F20-40A3-BD1B-A3D1D624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A8F-02E2-4F60-BD9C-2A284A0F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70E-8B2F-4FD4-8FFB-E6F247E2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904-2E1B-4A0A-91FA-141B9341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788-ACE6-412A-9919-F52778B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DD6-381E-4518-9BEA-F04FA90E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88B-9757-4797-BC9A-28456AE3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3C60-E4D6-4645-9516-15B6180C9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 Zeros of a Quadratic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915400" cy="26208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Supply the missing formul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2819520"/>
            <a:ext cx="320040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3200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281916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52280" y="6858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stat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2971800"/>
            <a:ext cx="65530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4114800"/>
            <a:ext cx="121896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2895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3367080"/>
            <a:ext cx="65530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32907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747960"/>
            <a:ext cx="65530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36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052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8-01-21T05:18:21Z</dcterms:modified>
  <cp:revision>12</cp:revision>
  <dc:subject/>
  <dc:title>Slide 1</dc:title>
</cp:coreProperties>
</file>